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10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3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EB2A20-E1C4-4A79-A5CC-1F89B40E471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5CD04F-98E2-48A0-B28C-A6278F4DBC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104FE3-8F67-439E-8B11-B8F2640CA5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A1BCF0-09CF-427E-AC09-2E63E80C52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6CC6-E3CA-4C2A-82B9-76FBD9F1D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43FA-8FB7-47D3-8EA3-6F5BBC3A4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721D-9302-4988-BC36-7E17C23F2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DE99-AB27-48A4-A967-EC4239156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D191E-A505-4E93-B3E2-C236FC2E0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E23B7-8857-4A5A-BBA8-0E289A08F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2ADE7-F0AA-49CA-8877-9A1871EBB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3F388-D6C5-4CE9-BE0F-2D33D3A5C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93D5B-D504-41A5-B893-DCBC96861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F010B-B068-43F4-98D0-39BE8378B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8C8AC-E13F-4582-8537-407FAD93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BB44-E6B8-4A13-A34C-DD4E40808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8418C-6F4E-415E-B85A-D17D7581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76FD5-032F-42D2-A6EF-E1F41B49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1420A-9D22-403C-875F-B4211C643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4628A-DDE8-4902-9F14-4DAE68276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11CFD-CA17-4135-B920-E14E2A138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C3A87-8509-4F80-83D4-EEAA9209B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E6B78-EE05-4594-8A12-FF80F393C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566FB-4233-4F4A-A2BA-2421E48BC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2380C-83CA-4274-8A15-075BDACD1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4B5AC-FEC6-486B-90F8-070E827BA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2FFA-EF5F-4B17-9DF9-3788667A2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76426-E7BE-40C5-8E2D-DEE0E2C10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6C77D-D1FE-4E17-8EF1-FBB06726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A26FD-AA64-4D58-B6E2-D23FB376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69A9F-EBF8-4B4E-8050-A65A05D4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92DA8-7E7D-4128-AA7D-22ED2432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B288A-8C83-44F8-85F2-460F6F7B9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888B1-57E8-4BD9-BFEE-2CC43ED0C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94948-EF77-48AA-AF77-A6E329869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1644C-E722-4172-A317-6871D6F01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5582B-1AB9-4ECD-AD2F-6D200B46F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022F-F382-4F61-85DE-BECCFC399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CDA0E-E92B-49B7-A07A-0F2A46887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D6830-C1B8-44CA-B501-87287FFCA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E76F7-6855-4904-A170-1F11B8235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1170D-D2F0-4471-B1E9-60388B339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83E1F-60E5-4660-9515-071F5422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1918A-3DC3-48A4-B374-83B62D53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F9C6B-BD3B-4B0C-9EC2-3EFBCA1A2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AC5B3-A8D7-4A6A-A3AE-92AA4217F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836C2-D09F-49B1-98DB-B97D6334D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A2AD6-455E-451A-BF3A-6ACFCE78C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09F1-D6C4-4016-ADC3-21717EA05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06046-3659-4F2E-813E-513E77D90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47567-69F5-446D-8C55-FE8492271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E9E37-F20C-4BA4-849C-077E5552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AFCF8-A496-4FCC-9439-1DB00F0E8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AEAE9-8104-4073-8AD9-C8D21DB9F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D88B7-203B-425C-9473-1914D212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B9223-E890-4BDB-89BD-B6F71F62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22BF5-B794-4C5F-B085-76978D7D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A8285-123B-428F-89BD-F1F6FB429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65F82-F1EE-466C-897F-690E9B337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BCA9-2CAE-403E-BE31-153A8AEE6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13454-D8CF-4D1E-8E60-7115B00DC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86A43B-AE6B-474C-815A-F819C4C7F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DF4DC-6FC7-4103-BC80-5C01AF86F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C3DB6-DCED-4894-835E-6C221A9F1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E1001-5553-4FC2-80A3-8EBEA1D3D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74897-7816-494D-9900-DC4A77C3A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49ACA-8381-4B57-8325-4DB030810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D2DD3-AB7F-4CED-97F7-421347CB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2002A-F188-4711-B91A-3F225267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2AA54-3749-4218-A722-61E5586D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256A-8E78-4494-9523-26486B6A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FD208-9C46-41B2-90C8-2D8E68D6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CF632-F248-447A-A6CF-AFB0A552F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AF636-6FA4-4496-AD31-5F200C954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75A44F-A306-4786-9C2D-953BDA410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E9CB54-CADB-4045-9BD8-2CC3B15B3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68D00C-853E-4DAB-B8D1-4DEC62148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AB434-EF90-475E-A7F8-6D1F13E3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F87AF-EFD5-4416-AD06-7E3E099EF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39098C-8B09-4C94-AE31-9E415872E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F97EE-078C-44C5-923A-13AAF0B2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49B5-6F89-47C2-8804-6C1F9C84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BA54B-27AA-40C1-B8E9-31366AFE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9C0B94-9DAF-44A7-8559-0194CB85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7D914F-3D9F-4FF6-A662-349DBC066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4F20A-FE66-48B0-A978-632BEF1C2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DD4455-E59F-4F70-B372-CC328A186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D8A9-3D13-4C12-B9D7-9EBC8B0B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E1018B-98EC-465A-8414-43AAAC3D87CA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5D7BE6-C2DB-4C5B-9438-D74C5E3D02B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CC4782-852F-4EC2-96B4-D454BE2FCE61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BC2674-D3BE-40C1-BAD7-1F27D95C06B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770DB1-C8D1-434A-A110-756E73645673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3F2F4D-C628-4033-B232-4DA9B6AD6AC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10DD6D-C2F2-4108-ABDB-D5A2235656A7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D1A5FE-006F-4AD7-8911-EA80BDF28AF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6D663A-010B-4BEB-A74C-AA30804AE98C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0B5433-420C-4892-A441-3F1EC987E46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D6DF42-12BC-4394-B5EC-057F3744C315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F04F5D-A572-48D4-B7E2-A0B3515551B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67F87A-F481-4204-A0CC-51E7249F5AAC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D65A24-5DB2-4BC0-AC52-1E49AE23F9D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youtube.com/watch?v=1ZIK6Ua20JA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1ZIK6Ua20JA&amp;feature=channel_page" TargetMode="External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71640" y="3068640"/>
            <a:ext cx="7407360" cy="147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Lesson 7: Stomach, pancreas, liver and gallbladder 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115640" y="4869000"/>
            <a:ext cx="740556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Objective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-function and structure of these organ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How it all fits together…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69" name="Picture 4" descr=""/>
          <p:cNvPicPr/>
          <p:nvPr/>
        </p:nvPicPr>
        <p:blipFill>
          <a:blip r:embed="rId1"/>
          <a:stretch/>
        </p:blipFill>
        <p:spPr>
          <a:xfrm>
            <a:off x="-507960" y="1447920"/>
            <a:ext cx="10159920" cy="52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900000" y="-258840"/>
            <a:ext cx="7748640" cy="12794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"/>
          <p:cNvPicPr/>
          <p:nvPr/>
        </p:nvPicPr>
        <p:blipFill>
          <a:blip r:embed="rId2"/>
          <a:stretch/>
        </p:blipFill>
        <p:spPr>
          <a:xfrm>
            <a:off x="5796000" y="4025880"/>
            <a:ext cx="2673360" cy="2832120"/>
          </a:xfrm>
          <a:prstGeom prst="rect">
            <a:avLst/>
          </a:prstGeom>
          <a:ln w="0">
            <a:noFill/>
          </a:ln>
        </p:spPr>
      </p:pic>
      <p:sp>
        <p:nvSpPr>
          <p:cNvPr id="372" name="1 CuadroTexto"/>
          <p:cNvSpPr/>
          <p:nvPr/>
        </p:nvSpPr>
        <p:spPr>
          <a:xfrm>
            <a:off x="900000" y="692280"/>
            <a:ext cx="792972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ns your blood (removes toxin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duce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ores energy in the form of a sugar called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lycog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gulates blood concentrations of fats &amp; glucose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duces and maintains the balance of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orm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ke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re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from the breakdown of amino acid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ore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r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processe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itamins A,D,E &amp; 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stroy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ld red blood cel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ke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holeste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72314"/>
                </a:solidFill>
                <a:latin typeface="Gill Sans MT"/>
              </a:rPr>
              <a:t>The Gall Bladder</a:t>
            </a:r>
            <a:endParaRPr b="0" lang="en-US" sz="3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liver produce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bile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up to 1.5L per day!)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, and stores it in th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Gall Bladd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 thick green liqui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reaks fat into smaller droplets to ease digestion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at kind of digestion does bile perform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Mechanical or Chemical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Gall bladder problems…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1434960" y="1447560"/>
            <a:ext cx="74995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all stones can form, usually from hardened cholesterol piec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7" name="Picture 3" descr="gall1a.jpg"/>
          <p:cNvPicPr/>
          <p:nvPr/>
        </p:nvPicPr>
        <p:blipFill>
          <a:blip r:embed="rId1"/>
          <a:stretch/>
        </p:blipFill>
        <p:spPr>
          <a:xfrm>
            <a:off x="3029040" y="2852640"/>
            <a:ext cx="4133880" cy="27036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"/>
          <p:cNvPicPr/>
          <p:nvPr/>
        </p:nvPicPr>
        <p:blipFill>
          <a:blip r:embed="rId2"/>
          <a:stretch/>
        </p:blipFill>
        <p:spPr>
          <a:xfrm>
            <a:off x="1324080" y="6066000"/>
            <a:ext cx="7626240" cy="66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he Pancrea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434960" y="1143000"/>
            <a:ext cx="7499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nnected to the duodenum by a duc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ancreatic juice has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odium bicarbonate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neutralize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the acidic chym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 Enzymes to further break down foo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617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1. Pancreatic amyla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617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arch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alto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617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2. Trypsi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617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tei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peptid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617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3. Lipa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617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at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glycerol and 3 fatty aci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87280" y="1080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72314"/>
                </a:solidFill>
                <a:latin typeface="Gill Sans MT"/>
              </a:rPr>
              <a:t>More </a:t>
            </a:r>
            <a:r>
              <a:rPr b="1" lang="en-US" sz="3500" spc="-1" strike="noStrike">
                <a:solidFill>
                  <a:srgbClr val="572314"/>
                </a:solidFill>
                <a:latin typeface="Gill Sans MT"/>
              </a:rPr>
              <a:t>Important </a:t>
            </a:r>
            <a:r>
              <a:rPr b="0" lang="en-US" sz="3500" spc="-1" strike="noStrike">
                <a:solidFill>
                  <a:srgbClr val="572314"/>
                </a:solidFill>
                <a:latin typeface="Gill Sans MT"/>
              </a:rPr>
              <a:t>pancreatic functions</a:t>
            </a:r>
            <a:endParaRPr b="0" lang="en-US" sz="3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187280" y="90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gulation of blood sugar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How long do you typically go without eating in 24 hours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But your cells need a steady supply of blood glucose to function… not too much, not too littl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How do you manage this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3 CuadroTexto"/>
          <p:cNvSpPr/>
          <p:nvPr/>
        </p:nvSpPr>
        <p:spPr>
          <a:xfrm>
            <a:off x="1020600" y="5838840"/>
            <a:ext cx="794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http://www.bbc.co.uk/schools/gcsebitesize/science/21c_pre_2011/food/diabetesrev1.s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8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8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8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8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8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800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800" fill="hold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00" fill="hold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00" fill="hold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826560" y="1093320"/>
            <a:ext cx="3816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utoimmune disord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ancreas cannot make insuli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st be controlled via regular insulin injec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5" name="Picture 3" descr="insulin-formation-during-type-1-diabetes.jpg"/>
          <p:cNvPicPr/>
          <p:nvPr/>
        </p:nvPicPr>
        <p:blipFill>
          <a:blip r:embed="rId1"/>
          <a:stretch/>
        </p:blipFill>
        <p:spPr>
          <a:xfrm>
            <a:off x="117360" y="3147840"/>
            <a:ext cx="4826160" cy="3937320"/>
          </a:xfrm>
          <a:prstGeom prst="rect">
            <a:avLst/>
          </a:prstGeom>
          <a:ln w="0">
            <a:noFill/>
          </a:ln>
        </p:spPr>
      </p:pic>
      <p:sp>
        <p:nvSpPr>
          <p:cNvPr id="386" name="TextBox 4"/>
          <p:cNvSpPr/>
          <p:nvPr/>
        </p:nvSpPr>
        <p:spPr>
          <a:xfrm>
            <a:off x="5651640" y="400536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5"/>
          <p:cNvSpPr/>
          <p:nvPr/>
        </p:nvSpPr>
        <p:spPr>
          <a:xfrm>
            <a:off x="1072440" y="17640"/>
            <a:ext cx="36525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 I diabe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usually juvenile ons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2 CuadroTexto"/>
          <p:cNvSpPr/>
          <p:nvPr/>
        </p:nvSpPr>
        <p:spPr>
          <a:xfrm>
            <a:off x="5005440" y="17640"/>
            <a:ext cx="39290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 II Diabetes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usually adult ons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4 CuadroTexto"/>
          <p:cNvSpPr/>
          <p:nvPr/>
        </p:nvSpPr>
        <p:spPr>
          <a:xfrm>
            <a:off x="4730760" y="1076400"/>
            <a:ext cx="4413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ancreas does not make the correct amount of insu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ften controlled by diet and exer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rugs can help increase sensitivity to insu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8" descr=""/>
          <p:cNvPicPr/>
          <p:nvPr/>
        </p:nvPicPr>
        <p:blipFill>
          <a:blip r:embed="rId2"/>
          <a:stretch/>
        </p:blipFill>
        <p:spPr>
          <a:xfrm>
            <a:off x="4946760" y="3571920"/>
            <a:ext cx="423540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300" spc="-1" strike="noStrike">
                <a:solidFill>
                  <a:srgbClr val="572314"/>
                </a:solidFill>
                <a:latin typeface="Gill Sans MT"/>
              </a:rPr>
              <a:t>Digestion Questions #1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1143000" y="98532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495360" indent="-42696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xplain the step by step process that occurs whe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23240" indent="-426960">
              <a:spcBef>
                <a:spcPts val="550"/>
              </a:spcBef>
              <a:buClr>
                <a:srgbClr val="3891a7"/>
              </a:buClr>
              <a:buFont typeface="Gill Sans MT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omeone chokes on a piece of food. What goes wrong? (1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23240" indent="-426960">
              <a:spcBef>
                <a:spcPts val="550"/>
              </a:spcBef>
              <a:buClr>
                <a:srgbClr val="3891a7"/>
              </a:buClr>
              <a:buFont typeface="Gill Sans MT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u are drinking water and accidentally laugh, causing the water to come out of your nose.  What goes wrong? (1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23240" indent="-426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495360" indent="-42696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xplain all the types of digestion that occur in the mouth. (2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95360" indent="-42696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95360" indent="-42696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hat possible problem could lead to an esophageal ulcer? Explain what would happen to cause this. (2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95360" indent="-42696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95360" indent="-42696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xplain all the types of digestion that occur in the stomach. (2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95360" indent="-42696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95360" indent="-42696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f someone had a severe ulcer, would it be possible to remove his or her stomach and replace it with a bag? What properties would this bag need to have in order to function? How would that person’s diet need to change? (3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 Tour of the Digestive System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Gill Sans MT"/>
              </a:rPr>
              <a:t>Mouth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Gill Sans MT"/>
              </a:rPr>
              <a:t>Tongue, teeth, salivary glands, pharynx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Gill Sans MT"/>
              </a:rPr>
              <a:t>Enzyme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Gill Sans MT"/>
              </a:rPr>
              <a:t>Esophagu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Gill Sans MT"/>
              </a:rPr>
              <a:t>Epiglottis and choking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Gill Sans MT"/>
              </a:rPr>
              <a:t>Peristalsi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tomach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ill Sans MT"/>
              </a:rPr>
              <a:t>Cardiac and pyloric sphincters and stomach cell type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ill Sans MT"/>
              </a:rPr>
              <a:t>Enzymes and gastric secretion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ancrea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Digestion enzymes, pH balance and maintenance of blood sugar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iver / Gall bladd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Roles in digestion and other body process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Gill Sans MT"/>
              </a:rPr>
              <a:t>Small intestin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Gill Sans MT"/>
              </a:rPr>
              <a:t>Specialization – structure and function three sections and of the villi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Gill Sans MT"/>
              </a:rPr>
              <a:t>Enzyme actio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Gill Sans MT"/>
              </a:rPr>
              <a:t>Large intestin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Gill Sans MT"/>
              </a:rPr>
              <a:t>Functions and anaerobic bacteria withi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Gill Sans MT"/>
              </a:rPr>
              <a:t>Rectum and Anu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Gill Sans MT"/>
              </a:rPr>
              <a:t>Expulsion of wast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eaching the stomach…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29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olus arrives at th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cardiac sphinct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is the “door” at the top of the stoma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de of musc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ill Sans MT"/>
              </a:rPr>
              <a:t>Heartbur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pening of the cardiac sphincter allowing food (soaked in stomach acid) to enter the esophagu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2" name="Picture 4" descr=""/>
          <p:cNvPicPr/>
          <p:nvPr/>
        </p:nvPicPr>
        <p:blipFill>
          <a:blip r:embed="rId1"/>
          <a:stretch/>
        </p:blipFill>
        <p:spPr>
          <a:xfrm>
            <a:off x="1090440" y="4281480"/>
            <a:ext cx="2695680" cy="2505240"/>
          </a:xfrm>
          <a:prstGeom prst="rect">
            <a:avLst/>
          </a:prstGeom>
          <a:ln w="0">
            <a:noFill/>
          </a:ln>
        </p:spPr>
      </p:pic>
      <p:sp>
        <p:nvSpPr>
          <p:cNvPr id="333" name="TextBox 4"/>
          <p:cNvSpPr/>
          <p:nvPr/>
        </p:nvSpPr>
        <p:spPr>
          <a:xfrm>
            <a:off x="3840480" y="6211800"/>
            <a:ext cx="507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8dc765"/>
                </a:solidFill>
                <a:uFillTx/>
                <a:latin typeface="Arial"/>
                <a:ea typeface="ＭＳ Ｐゴシック"/>
                <a:hlinkClick r:id="rId2"/>
              </a:rPr>
              <a:t>http://www.youtube.com/watch?v=1ZIK6Ua20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icture 5"/>
          <p:cNvSpPr/>
          <p:nvPr/>
        </p:nvSpPr>
        <p:spPr>
          <a:xfrm>
            <a:off x="4000680" y="4357800"/>
            <a:ext cx="2847960" cy="18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he Stomach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34960" y="14475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ow big is your stomach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bout 1.5 to 2L in an adult human (300L in a cow!)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7" name="Picture 3" descr="rabbit_stomach.jpg"/>
          <p:cNvPicPr/>
          <p:nvPr/>
        </p:nvPicPr>
        <p:blipFill>
          <a:blip r:embed="rId1"/>
          <a:stretch/>
        </p:blipFill>
        <p:spPr>
          <a:xfrm>
            <a:off x="2197080" y="2590920"/>
            <a:ext cx="5651640" cy="4062240"/>
          </a:xfrm>
          <a:prstGeom prst="rect">
            <a:avLst/>
          </a:prstGeom>
          <a:ln w="0">
            <a:noFill/>
          </a:ln>
        </p:spPr>
      </p:pic>
      <p:sp>
        <p:nvSpPr>
          <p:cNvPr id="338" name="TextBox 4"/>
          <p:cNvSpPr/>
          <p:nvPr/>
        </p:nvSpPr>
        <p:spPr>
          <a:xfrm>
            <a:off x="1219320" y="5334120"/>
            <a:ext cx="977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is is a rabbit stom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4" descr=""/>
          <p:cNvPicPr/>
          <p:nvPr/>
        </p:nvPicPr>
        <p:blipFill>
          <a:blip r:embed="rId1"/>
          <a:stretch/>
        </p:blipFill>
        <p:spPr>
          <a:xfrm>
            <a:off x="6808680" y="3259080"/>
            <a:ext cx="2791080" cy="20192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42920" y="-1353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he Stomach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042560" y="1008000"/>
            <a:ext cx="5738760" cy="608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Three layers of </a:t>
            </a:r>
            <a:r>
              <a:rPr b="1" lang="en-US" sz="2500" spc="-1" strike="noStrike">
                <a:solidFill>
                  <a:srgbClr val="000000"/>
                </a:solidFill>
                <a:latin typeface="Gill Sans MT"/>
              </a:rPr>
              <a:t>muscle</a:t>
            </a: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 which </a:t>
            </a:r>
            <a:r>
              <a:rPr b="1" lang="en-US" sz="2500" spc="-1" strike="noStrike">
                <a:solidFill>
                  <a:srgbClr val="000000"/>
                </a:solidFill>
                <a:latin typeface="Gill Sans MT"/>
              </a:rPr>
              <a:t>mechanically </a:t>
            </a: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m</a:t>
            </a:r>
            <a:r>
              <a:rPr b="0" lang="en-US" sz="2100" spc="-1" strike="noStrike">
                <a:solidFill>
                  <a:srgbClr val="000000"/>
                </a:solidFill>
                <a:latin typeface="Gill Sans MT"/>
              </a:rPr>
              <a:t>ix up and break up the food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The food is mixed with </a:t>
            </a:r>
            <a:r>
              <a:rPr b="1" lang="en-US" sz="2500" spc="-1" strike="noStrike">
                <a:solidFill>
                  <a:srgbClr val="000000"/>
                </a:solidFill>
                <a:latin typeface="Gill Sans MT"/>
              </a:rPr>
              <a:t>gastric juice </a:t>
            </a: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and </a:t>
            </a:r>
            <a:r>
              <a:rPr b="1" lang="en-US" sz="2500" spc="-1" strike="noStrike">
                <a:solidFill>
                  <a:srgbClr val="000000"/>
                </a:solidFill>
                <a:latin typeface="Gill Sans MT"/>
              </a:rPr>
              <a:t>hydrochloric acid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The acid kills germs in the food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Proteins are broken down into peptides by the enzyme </a:t>
            </a:r>
            <a:r>
              <a:rPr b="1" lang="en-US" sz="2500" spc="-1" strike="noStrike">
                <a:solidFill>
                  <a:srgbClr val="000000"/>
                </a:solidFill>
                <a:latin typeface="Gill Sans MT"/>
              </a:rPr>
              <a:t>PEPSIN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Food spends about 3-4 hours in here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ill Sans MT"/>
              </a:rPr>
              <a:t>Gastric juice</a:t>
            </a: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Pepsinogen + Hydrochloric acid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Peps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ill Sans MT"/>
              </a:rPr>
              <a:t>Pepsin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624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ill Sans MT"/>
              </a:rPr>
              <a:t>proteins </a:t>
            </a:r>
            <a:r>
              <a:rPr b="1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500" spc="-1" strike="noStrike">
                <a:solidFill>
                  <a:srgbClr val="000000"/>
                </a:solidFill>
                <a:latin typeface="Gill Sans MT"/>
              </a:rPr>
              <a:t> peptides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624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2" name="Picture 5" descr=""/>
          <p:cNvPicPr/>
          <p:nvPr/>
        </p:nvPicPr>
        <p:blipFill>
          <a:blip r:embed="rId2"/>
          <a:stretch/>
        </p:blipFill>
        <p:spPr>
          <a:xfrm>
            <a:off x="6886440" y="549360"/>
            <a:ext cx="2637000" cy="21114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6" descr=""/>
          <p:cNvPicPr/>
          <p:nvPr/>
        </p:nvPicPr>
        <p:blipFill>
          <a:blip r:embed="rId3"/>
          <a:stretch/>
        </p:blipFill>
        <p:spPr>
          <a:xfrm>
            <a:off x="6756480" y="5278320"/>
            <a:ext cx="289548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1042920" y="115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3 types of cells in the stomach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Mucus cell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cus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protect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he stoma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Parietal cell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rete HCl with pH 3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kills bacteria and helps break food dow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Peptic cell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rete pepsinogen to make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pepsi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5" name="Picture 3" descr=""/>
          <p:cNvPicPr/>
          <p:nvPr/>
        </p:nvPicPr>
        <p:blipFill>
          <a:blip r:embed="rId1"/>
          <a:stretch/>
        </p:blipFill>
        <p:spPr>
          <a:xfrm>
            <a:off x="1042920" y="3613320"/>
            <a:ext cx="7499520" cy="32446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5" descr=""/>
          <p:cNvPicPr/>
          <p:nvPr/>
        </p:nvPicPr>
        <p:blipFill>
          <a:blip r:embed="rId2"/>
          <a:stretch/>
        </p:blipFill>
        <p:spPr>
          <a:xfrm>
            <a:off x="5580000" y="4422600"/>
            <a:ext cx="1494000" cy="4939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6" descr=""/>
          <p:cNvPicPr/>
          <p:nvPr/>
        </p:nvPicPr>
        <p:blipFill>
          <a:blip r:embed="rId3"/>
          <a:stretch/>
        </p:blipFill>
        <p:spPr>
          <a:xfrm>
            <a:off x="7667640" y="4422600"/>
            <a:ext cx="1255680" cy="804960"/>
          </a:xfrm>
          <a:prstGeom prst="rect">
            <a:avLst/>
          </a:prstGeom>
          <a:ln w="0">
            <a:noFill/>
          </a:ln>
        </p:spPr>
      </p:pic>
      <p:sp>
        <p:nvSpPr>
          <p:cNvPr id="348" name="TextBox 21"/>
          <p:cNvSpPr/>
          <p:nvPr/>
        </p:nvSpPr>
        <p:spPr>
          <a:xfrm>
            <a:off x="6948360" y="4708440"/>
            <a:ext cx="5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7" descr=""/>
          <p:cNvPicPr/>
          <p:nvPr/>
        </p:nvPicPr>
        <p:blipFill>
          <a:blip r:embed="rId4"/>
          <a:stretch/>
        </p:blipFill>
        <p:spPr>
          <a:xfrm>
            <a:off x="5154480" y="6338880"/>
            <a:ext cx="1517760" cy="4935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"/>
          <p:cNvPicPr/>
          <p:nvPr/>
        </p:nvPicPr>
        <p:blipFill>
          <a:blip r:embed="rId5"/>
          <a:stretch/>
        </p:blipFill>
        <p:spPr>
          <a:xfrm>
            <a:off x="7667640" y="5959440"/>
            <a:ext cx="1335240" cy="49392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9" descr=""/>
          <p:cNvPicPr/>
          <p:nvPr/>
        </p:nvPicPr>
        <p:blipFill>
          <a:blip r:embed="rId6"/>
          <a:stretch/>
        </p:blipFill>
        <p:spPr>
          <a:xfrm>
            <a:off x="1763640" y="6207120"/>
            <a:ext cx="2530440" cy="49356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0" descr=""/>
          <p:cNvPicPr/>
          <p:nvPr/>
        </p:nvPicPr>
        <p:blipFill>
          <a:blip r:embed="rId7"/>
          <a:stretch/>
        </p:blipFill>
        <p:spPr>
          <a:xfrm>
            <a:off x="5499000" y="5227560"/>
            <a:ext cx="828720" cy="5796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1" descr=""/>
          <p:cNvPicPr/>
          <p:nvPr/>
        </p:nvPicPr>
        <p:blipFill>
          <a:blip r:embed="rId8"/>
          <a:stretch/>
        </p:blipFill>
        <p:spPr>
          <a:xfrm>
            <a:off x="5181480" y="4826160"/>
            <a:ext cx="317520" cy="16272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2" descr=""/>
          <p:cNvPicPr/>
          <p:nvPr/>
        </p:nvPicPr>
        <p:blipFill>
          <a:blip r:embed="rId9"/>
          <a:stretch/>
        </p:blipFill>
        <p:spPr>
          <a:xfrm>
            <a:off x="2556000" y="4567320"/>
            <a:ext cx="163332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8548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72314"/>
                </a:solidFill>
                <a:latin typeface="Gill Sans MT"/>
              </a:rPr>
              <a:t>Why doesn’t the stomach digest itself?</a:t>
            </a:r>
            <a:endParaRPr b="0" lang="en-US" sz="3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000080" y="1213920"/>
            <a:ext cx="5929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Cl could eat through the stomach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76960" indent="-279720">
              <a:spcBef>
                <a:spcPts val="601"/>
              </a:spcBef>
              <a:buClr>
                <a:srgbClr val="feb8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opped by the mucus lay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7696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epsin could digest protein in the stomach cell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76960" indent="-279720">
              <a:spcBef>
                <a:spcPts val="601"/>
              </a:spcBef>
              <a:buClr>
                <a:srgbClr val="feb8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psin is only made when pepsinogen mixes with HC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76960" indent="-279720">
              <a:spcBef>
                <a:spcPts val="601"/>
              </a:spcBef>
              <a:buClr>
                <a:srgbClr val="feb8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opped by the mucus layer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7" name="Picture 4" descr=""/>
          <p:cNvPicPr/>
          <p:nvPr/>
        </p:nvPicPr>
        <p:blipFill>
          <a:blip r:embed="rId1"/>
          <a:stretch/>
        </p:blipFill>
        <p:spPr>
          <a:xfrm>
            <a:off x="6715080" y="1417680"/>
            <a:ext cx="1857600" cy="21049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5" descr=""/>
          <p:cNvPicPr/>
          <p:nvPr/>
        </p:nvPicPr>
        <p:blipFill>
          <a:blip r:embed="rId2"/>
          <a:stretch/>
        </p:blipFill>
        <p:spPr>
          <a:xfrm>
            <a:off x="6953400" y="4143240"/>
            <a:ext cx="1981080" cy="23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hen things go wrong…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434960" y="1428840"/>
            <a:ext cx="74995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acterial infec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ells can’t make mucu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an cause ulcers and stomach canc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TextBox 3"/>
          <p:cNvSpPr/>
          <p:nvPr/>
        </p:nvSpPr>
        <p:spPr>
          <a:xfrm>
            <a:off x="1397160" y="5929200"/>
            <a:ext cx="74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8dc765"/>
                </a:solidFill>
                <a:uFillTx/>
                <a:latin typeface="Arial"/>
                <a:hlinkClick r:id="rId1"/>
              </a:rPr>
              <a:t>http://www.youtube.com/watch?v=1ZIK6Ua20JA&amp;feature=channel_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5" descr=""/>
          <p:cNvPicPr/>
          <p:nvPr/>
        </p:nvPicPr>
        <p:blipFill>
          <a:blip r:embed="rId2"/>
          <a:stretch/>
        </p:blipFill>
        <p:spPr>
          <a:xfrm>
            <a:off x="5238720" y="3071880"/>
            <a:ext cx="3319560" cy="26431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6" descr=""/>
          <p:cNvPicPr/>
          <p:nvPr/>
        </p:nvPicPr>
        <p:blipFill>
          <a:blip r:embed="rId3"/>
          <a:stretch/>
        </p:blipFill>
        <p:spPr>
          <a:xfrm>
            <a:off x="546120" y="3071880"/>
            <a:ext cx="1778040" cy="17794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"/>
          <p:cNvPicPr/>
          <p:nvPr/>
        </p:nvPicPr>
        <p:blipFill>
          <a:blip r:embed="rId4"/>
          <a:stretch/>
        </p:blipFill>
        <p:spPr>
          <a:xfrm>
            <a:off x="2571840" y="3819600"/>
            <a:ext cx="240984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1434960" y="64260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eaving the stomach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hyme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= liquid food that leaves your stoma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And enters the small intesti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82600">
              <a:spcBef>
                <a:spcPts val="550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ntrolled by the PYLORIC SPHINCTER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82600">
              <a:spcBef>
                <a:spcPts val="601"/>
              </a:spcBef>
              <a:buClr>
                <a:srgbClr val="feb8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oor” of muscle at the bottom of the stoma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6" name="Picture 5" descr=""/>
          <p:cNvPicPr/>
          <p:nvPr/>
        </p:nvPicPr>
        <p:blipFill>
          <a:blip r:embed="rId1"/>
          <a:stretch/>
        </p:blipFill>
        <p:spPr>
          <a:xfrm>
            <a:off x="5415120" y="4143240"/>
            <a:ext cx="3338280" cy="25005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6" descr=""/>
          <p:cNvPicPr/>
          <p:nvPr/>
        </p:nvPicPr>
        <p:blipFill>
          <a:blip r:embed="rId2"/>
          <a:stretch/>
        </p:blipFill>
        <p:spPr>
          <a:xfrm>
            <a:off x="1928880" y="4386240"/>
            <a:ext cx="216216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8:47:49Z</dcterms:created>
  <dc:creator>Lisa Marcos</dc:creator>
  <dc:description/>
  <dc:language>en-US</dc:language>
  <cp:lastModifiedBy>laboratorios</cp:lastModifiedBy>
  <dcterms:modified xsi:type="dcterms:W3CDTF">2013-04-16T19:06:23Z</dcterms:modified>
  <cp:revision>62</cp:revision>
  <dc:subject/>
  <dc:title>The Digestive System Biology 12</dc:title>
</cp:coreProperties>
</file>